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60E4-E618-48BF-B398-65F523408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A7A2-70D3-496D-BFDB-6A8593232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1DB3-0FE1-4C0D-B1C1-ECA6505F5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23CF-BDE4-40C7-9130-611C58D3F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1159-7F9B-4B10-A291-5FE8C955F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up with 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5177-EB6F-4E70-801E-2C5069B2F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out can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0279-8CCA-46DB-A102-6BD133C09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 baby dancing video - play first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82F5-6A82-4E2C-B72F-2C904C0E6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6BA3-1E08-40D3-B23F-C3F52875B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1C92-1A1E-4CEB-BD53-C247EDEBE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E6DF-C573-4619-B7F9-79BAADBB7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arious reinforcement - act out skit… 2 students are sitting down listening one is jumping around or not paying attention… give sticker to children who earn it and a positive complement and other student follows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FE17-C32C-4930-997E-CFB5C32F6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A71B-9E58-4FEB-85F2-0713A80AA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BBBA-25FC-4A91-A1D5-3FCCA05F3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about how it happens from birth on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baby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gnitive 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: currently living indicidual whose behavior is observed in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c_: real or fictional character portrated in the media that influences an observer’s 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1B16-D547-4B1D-A209-2B2F9D526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A25A-3C51-40D1-A9B6-0CD68A5E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CD83-AF88-4884-9A58-7F3C65AEC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BBC0-F6EC-42BF-B178-5721ACE7E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5F41-59EB-427C-B92A-615B9BF0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381A-E0B3-47D3-B1A2-0F1D0B58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9981-DED5-4B06-9152-75912348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6E94-AD5D-4041-9DE2-CE919968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9417-BC61-4EDF-84EA-23127D82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D4D4-884A-4E61-8773-283D1D9D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C3C5-A521-447A-AC34-CC978D56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C086-EFFE-4405-9B82-A445B10D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881E-1810-4852-ACBC-9F3BCB1BAF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cial Cognitive 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lle Ch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annon Erick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itany Swe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minic Giamatt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gela Sin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through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ademic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d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personal behavi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ive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e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tige &amp;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ev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ccessful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or re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classroo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would each component of social cognitive learning be represented in the classro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infor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ish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ial Cognitive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erspective that can help us understand what and how people learn by observing others and how in the process they begin to take control of their own behavio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Ormr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 La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ial Cognitive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occurs as a result of social inte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ed in behavio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s cognitive process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Assumptions of Social Cognitive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520" y="2362320"/>
            <a:ext cx="4419720" cy="396216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earn by observing othe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earning is an internal proces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ehavior chang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gnitive processes influence motivation and learn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eople and their environments influence each oth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ehavior becomes increasingly self-regulat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hape 44"/>
          <p:cNvSpPr/>
          <p:nvPr/>
        </p:nvSpPr>
        <p:spPr>
          <a:xfrm>
            <a:off x="4800600" y="2362320"/>
            <a:ext cx="4191120" cy="39621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ial Cognitiv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major compon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infor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ish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quences have an effect on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ers form expectations   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en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ers expectations are influenced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carious Reinfor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ations about future con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onoccurrence of an expected conseq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vs. Negative Reinfor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nish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carious punish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ctations about future consequenc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noccurrence of an expected reinforcement can be a form of punish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Reinforce_Punish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nstrating a behavior for another person or observing and imitating another person’s behavior” (Ormr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gnitive mo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ve mo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mo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21:29:35Z</dcterms:created>
  <dc:creator>shannon  erickson</dc:creator>
  <dc:description/>
  <dc:language>en-US</dc:language>
  <cp:lastModifiedBy>Britany Sweet</cp:lastModifiedBy>
  <dcterms:modified xsi:type="dcterms:W3CDTF">2013-02-25T22:27:25Z</dcterms:modified>
  <cp:revision>14</cp:revision>
  <dc:subject/>
  <dc:title>Social cognitive theory</dc:title>
</cp:coreProperties>
</file>